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D57-EAD5-41E3-8F17-C1238853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9AB-7357-44A3-AADE-EAB14306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750-EF2F-49DD-9582-15033DBD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F2A-7C79-496D-86AA-96529E29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DC6-4DEE-42C0-AFEC-2B42048E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A89-1B1F-4F37-8E38-7FBCC979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381-34F7-43A5-BA84-9DF68507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5C7-E15F-4B07-9149-AE8B1641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FB2-3323-4575-A9F0-74B6F297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05C-DD2B-49A3-BCCE-3FE155FB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C24-3F65-43AF-B4BD-5251BFC0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C540-0941-41D9-9524-AF678B5C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A823-382C-4AA1-A7CB-8E811F3C3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6360" y="4078440"/>
            <a:ext cx="345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70200" y="4087800"/>
            <a:ext cx="366732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35120" y="3689280"/>
            <a:ext cx="1038240" cy="384120"/>
          </a:xfrm>
          <a:custGeom>
            <a:avLst/>
            <a:gdLst/>
            <a:ahLst/>
            <a:rect l="l" t="t" r="r" b="b"/>
            <a:pathLst>
              <a:path w="435" h="232">
                <a:moveTo>
                  <a:pt x="0" y="232"/>
                </a:moveTo>
                <a:cubicBezTo>
                  <a:pt x="49" y="222"/>
                  <a:pt x="221" y="211"/>
                  <a:pt x="294" y="172"/>
                </a:cubicBezTo>
                <a:cubicBezTo>
                  <a:pt x="367" y="133"/>
                  <a:pt x="406" y="36"/>
                  <a:pt x="435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535120" y="4078440"/>
            <a:ext cx="60850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52280"/>
            <a:ext cx="4915080" cy="764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28440" y="1066680"/>
            <a:ext cx="9171720" cy="5092920"/>
            <a:chOff x="-28440" y="1066680"/>
            <a:chExt cx="9171720" cy="5092920"/>
          </a:xfrm>
        </p:grpSpPr>
        <p:sp>
          <p:nvSpPr>
            <p:cNvPr id="47" name=""/>
            <p:cNvSpPr/>
            <p:nvPr/>
          </p:nvSpPr>
          <p:spPr>
            <a:xfrm>
              <a:off x="241200" y="2307960"/>
              <a:ext cx="8559720" cy="1631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2120" y="2012760"/>
              <a:ext cx="8574120" cy="355320"/>
            </a:xfrm>
            <a:prstGeom prst="rect">
              <a:avLst/>
            </a:prstGeom>
            <a:gradFill rotWithShape="0">
              <a:gsLst>
                <a:gs pos="0">
                  <a:srgbClr val="68ae45"/>
                </a:gs>
                <a:gs pos="100000">
                  <a:srgbClr val="99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120" y="3854520"/>
              <a:ext cx="8574120" cy="190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2120" y="5762880"/>
              <a:ext cx="8574120" cy="396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538560" y="2373480"/>
              <a:ext cx="247320" cy="2010960"/>
              <a:chOff x="538560" y="2373480"/>
              <a:chExt cx="247320" cy="2010960"/>
            </a:xfrm>
          </p:grpSpPr>
          <p:sp>
            <p:nvSpPr>
              <p:cNvPr id="52" name=""/>
              <p:cNvSpPr/>
              <p:nvPr/>
            </p:nvSpPr>
            <p:spPr>
              <a:xfrm>
                <a:off x="538560" y="2373480"/>
                <a:ext cx="247320" cy="20109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38560" y="3831840"/>
                <a:ext cx="247320" cy="552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68440" y="388116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0360" y="3925800"/>
                <a:ext cx="28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3160" y="3887640"/>
                <a:ext cx="108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68440" y="4087440"/>
                <a:ext cx="28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30360" y="413028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13160" y="4092480"/>
                <a:ext cx="108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87520" y="428760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648000" y="4331880"/>
                <a:ext cx="2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709920" y="429876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4133880" y="2368440"/>
              <a:ext cx="3092400" cy="237960"/>
            </a:xfrm>
            <a:custGeom>
              <a:avLst/>
              <a:gdLst>
                <a:gd name="textAreaLeft" fmla="*/ 409320 w 3092400"/>
                <a:gd name="textAreaRight" fmla="*/ 2683080 w 3092400"/>
                <a:gd name="textAreaTop" fmla="*/ 31320 h 237960"/>
                <a:gd name="textAreaBottom" fmla="*/ 2066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00" y="21600"/>
                  </a:lnTo>
                  <a:lnTo>
                    <a:pt x="2000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11560" y="2087640"/>
              <a:ext cx="3822480" cy="277200"/>
            </a:xfrm>
            <a:prstGeom prst="parallelogram">
              <a:avLst>
                <a:gd name="adj" fmla="val 258555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91640" y="3718080"/>
              <a:ext cx="1037880" cy="301680"/>
            </a:xfrm>
            <a:custGeom>
              <a:avLst/>
              <a:gdLst/>
              <a:ahLst/>
              <a:rect l="l" t="t" r="r" b="b"/>
              <a:pathLst>
                <a:path w="435" h="183">
                  <a:moveTo>
                    <a:pt x="51" y="183"/>
                  </a:moveTo>
                  <a:lnTo>
                    <a:pt x="435" y="183"/>
                  </a:lnTo>
                  <a:lnTo>
                    <a:pt x="267" y="156"/>
                  </a:lnTo>
                  <a:lnTo>
                    <a:pt x="168" y="135"/>
                  </a:lnTo>
                  <a:lnTo>
                    <a:pt x="138" y="126"/>
                  </a:lnTo>
                  <a:lnTo>
                    <a:pt x="102" y="114"/>
                  </a:lnTo>
                  <a:lnTo>
                    <a:pt x="57" y="78"/>
                  </a:lnTo>
                  <a:lnTo>
                    <a:pt x="36" y="51"/>
                  </a:lnTo>
                  <a:lnTo>
                    <a:pt x="15" y="24"/>
                  </a:lnTo>
                  <a:lnTo>
                    <a:pt x="0" y="0"/>
                  </a:lnTo>
                  <a:lnTo>
                    <a:pt x="30" y="87"/>
                  </a:lnTo>
                  <a:lnTo>
                    <a:pt x="42" y="129"/>
                  </a:lnTo>
                  <a:lnTo>
                    <a:pt x="42" y="156"/>
                  </a:lnTo>
                  <a:lnTo>
                    <a:pt x="51" y="18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19560" y="3386520"/>
              <a:ext cx="2633760" cy="632880"/>
            </a:xfrm>
            <a:custGeom>
              <a:avLst/>
              <a:gdLst/>
              <a:ahLst/>
              <a:rect l="l" t="t" r="r" b="b"/>
              <a:pathLst>
                <a:path w="1104" h="384">
                  <a:moveTo>
                    <a:pt x="0" y="288"/>
                  </a:moveTo>
                  <a:lnTo>
                    <a:pt x="96" y="96"/>
                  </a:lnTo>
                  <a:lnTo>
                    <a:pt x="480" y="0"/>
                  </a:lnTo>
                  <a:lnTo>
                    <a:pt x="816" y="0"/>
                  </a:lnTo>
                  <a:lnTo>
                    <a:pt x="1056" y="48"/>
                  </a:lnTo>
                  <a:lnTo>
                    <a:pt x="1104" y="288"/>
                  </a:lnTo>
                  <a:lnTo>
                    <a:pt x="720" y="384"/>
                  </a:lnTo>
                  <a:lnTo>
                    <a:pt x="480" y="336"/>
                  </a:lnTo>
                  <a:lnTo>
                    <a:pt x="240" y="336"/>
                  </a:lnTo>
                  <a:lnTo>
                    <a:pt x="0" y="28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16120" y="2910240"/>
              <a:ext cx="6527160" cy="1901160"/>
              <a:chOff x="2616120" y="2910240"/>
              <a:chExt cx="6527160" cy="1901160"/>
            </a:xfrm>
          </p:grpSpPr>
          <p:sp>
            <p:nvSpPr>
              <p:cNvPr id="68" name=""/>
              <p:cNvSpPr/>
              <p:nvPr/>
            </p:nvSpPr>
            <p:spPr>
              <a:xfrm>
                <a:off x="7196400" y="3147840"/>
                <a:ext cx="1946880" cy="713160"/>
              </a:xfrm>
              <a:custGeom>
                <a:avLst/>
                <a:gdLst/>
                <a:ahLst/>
                <a:rect l="l" t="t" r="r" b="b"/>
                <a:pathLst>
                  <a:path w="816" h="432">
                    <a:moveTo>
                      <a:pt x="96" y="432"/>
                    </a:moveTo>
                    <a:lnTo>
                      <a:pt x="816" y="432"/>
                    </a:lnTo>
                    <a:lnTo>
                      <a:pt x="501" y="368"/>
                    </a:lnTo>
                    <a:lnTo>
                      <a:pt x="420" y="312"/>
                    </a:lnTo>
                    <a:lnTo>
                      <a:pt x="252" y="204"/>
                    </a:lnTo>
                    <a:lnTo>
                      <a:pt x="336" y="252"/>
                    </a:lnTo>
                    <a:lnTo>
                      <a:pt x="156" y="144"/>
                    </a:lnTo>
                    <a:lnTo>
                      <a:pt x="108" y="108"/>
                    </a:lnTo>
                    <a:lnTo>
                      <a:pt x="28" y="57"/>
                    </a:lnTo>
                    <a:lnTo>
                      <a:pt x="0" y="0"/>
                    </a:lnTo>
                    <a:lnTo>
                      <a:pt x="56" y="205"/>
                    </a:lnTo>
                    <a:lnTo>
                      <a:pt x="79" y="305"/>
                    </a:lnTo>
                    <a:lnTo>
                      <a:pt x="79" y="368"/>
                    </a:lnTo>
                    <a:lnTo>
                      <a:pt x="96" y="432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2616120" y="2910240"/>
                <a:ext cx="5267160" cy="1901160"/>
                <a:chOff x="2616120" y="2910240"/>
                <a:chExt cx="5267160" cy="19011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531960" y="2910240"/>
                  <a:ext cx="4351320" cy="190116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616120" y="3226680"/>
                  <a:ext cx="1459440" cy="658440"/>
                </a:xfrm>
                <a:custGeom>
                  <a:avLst/>
                  <a:gdLst/>
                  <a:ahLst/>
                  <a:rect l="l" t="t" r="r" b="b"/>
                  <a:pathLst>
                    <a:path w="612" h="399">
                      <a:moveTo>
                        <a:pt x="22" y="386"/>
                      </a:moveTo>
                      <a:cubicBezTo>
                        <a:pt x="134" y="385"/>
                        <a:pt x="81" y="399"/>
                        <a:pt x="361" y="381"/>
                      </a:cubicBezTo>
                      <a:cubicBezTo>
                        <a:pt x="536" y="374"/>
                        <a:pt x="549" y="390"/>
                        <a:pt x="576" y="256"/>
                      </a:cubicBezTo>
                      <a:cubicBezTo>
                        <a:pt x="577" y="239"/>
                        <a:pt x="580" y="225"/>
                        <a:pt x="585" y="209"/>
                      </a:cubicBezTo>
                      <a:cubicBezTo>
                        <a:pt x="586" y="185"/>
                        <a:pt x="588" y="161"/>
                        <a:pt x="593" y="139"/>
                      </a:cubicBezTo>
                      <a:cubicBezTo>
                        <a:pt x="594" y="113"/>
                        <a:pt x="597" y="75"/>
                        <a:pt x="607" y="51"/>
                      </a:cubicBezTo>
                      <a:cubicBezTo>
                        <a:pt x="612" y="11"/>
                        <a:pt x="612" y="28"/>
                        <a:pt x="607" y="0"/>
                      </a:cubicBezTo>
                      <a:cubicBezTo>
                        <a:pt x="600" y="16"/>
                        <a:pt x="591" y="28"/>
                        <a:pt x="581" y="40"/>
                      </a:cubicBezTo>
                      <a:cubicBezTo>
                        <a:pt x="576" y="79"/>
                        <a:pt x="549" y="79"/>
                        <a:pt x="526" y="102"/>
                      </a:cubicBezTo>
                      <a:cubicBezTo>
                        <a:pt x="519" y="119"/>
                        <a:pt x="479" y="125"/>
                        <a:pt x="468" y="136"/>
                      </a:cubicBezTo>
                      <a:cubicBezTo>
                        <a:pt x="459" y="153"/>
                        <a:pt x="445" y="163"/>
                        <a:pt x="432" y="168"/>
                      </a:cubicBezTo>
                      <a:cubicBezTo>
                        <a:pt x="422" y="175"/>
                        <a:pt x="414" y="181"/>
                        <a:pt x="404" y="184"/>
                      </a:cubicBezTo>
                      <a:cubicBezTo>
                        <a:pt x="396" y="189"/>
                        <a:pt x="404" y="188"/>
                        <a:pt x="384" y="200"/>
                      </a:cubicBezTo>
                      <a:cubicBezTo>
                        <a:pt x="363" y="212"/>
                        <a:pt x="328" y="232"/>
                        <a:pt x="308" y="236"/>
                      </a:cubicBezTo>
                      <a:cubicBezTo>
                        <a:pt x="286" y="247"/>
                        <a:pt x="275" y="242"/>
                        <a:pt x="240" y="268"/>
                      </a:cubicBezTo>
                      <a:cubicBezTo>
                        <a:pt x="204" y="295"/>
                        <a:pt x="274" y="267"/>
                        <a:pt x="188" y="294"/>
                      </a:cubicBezTo>
                      <a:cubicBezTo>
                        <a:pt x="178" y="298"/>
                        <a:pt x="130" y="315"/>
                        <a:pt x="120" y="318"/>
                      </a:cubicBezTo>
                      <a:cubicBezTo>
                        <a:pt x="111" y="324"/>
                        <a:pt x="103" y="328"/>
                        <a:pt x="94" y="331"/>
                      </a:cubicBezTo>
                      <a:cubicBezTo>
                        <a:pt x="79" y="339"/>
                        <a:pt x="23" y="377"/>
                        <a:pt x="12" y="383"/>
                      </a:cubicBezTo>
                      <a:cubicBezTo>
                        <a:pt x="0" y="392"/>
                        <a:pt x="19" y="389"/>
                        <a:pt x="22" y="386"/>
                      </a:cubicBez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flipV="1">
              <a:off x="6022800" y="2217960"/>
              <a:ext cx="322560" cy="1440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76600" y="2619360"/>
              <a:ext cx="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91240" y="261288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88240" y="26128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45440" y="26128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3680" y="2619360"/>
              <a:ext cx="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91520" y="261936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75280" y="2612880"/>
              <a:ext cx="504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261280" y="3575160"/>
              <a:ext cx="322560" cy="14256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93080" y="5121360"/>
              <a:ext cx="260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Acuífero Li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2057400" y="2373480"/>
              <a:ext cx="247320" cy="2010960"/>
              <a:chOff x="2057400" y="2373480"/>
              <a:chExt cx="247320" cy="2010960"/>
            </a:xfrm>
          </p:grpSpPr>
          <p:sp>
            <p:nvSpPr>
              <p:cNvPr id="83" name=""/>
              <p:cNvSpPr/>
              <p:nvPr/>
            </p:nvSpPr>
            <p:spPr>
              <a:xfrm>
                <a:off x="2057400" y="2373480"/>
                <a:ext cx="247320" cy="20109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57400" y="3831840"/>
                <a:ext cx="247320" cy="55224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87280" y="388116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49200" y="3925800"/>
                <a:ext cx="28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32000" y="3887640"/>
                <a:ext cx="108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87280" y="4087440"/>
                <a:ext cx="28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49200" y="413028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32000" y="4092480"/>
                <a:ext cx="108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2106360" y="428760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166840" y="4331880"/>
                <a:ext cx="2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228760" y="429876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285000" y="2373480"/>
              <a:ext cx="247320" cy="2010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285000" y="3575160"/>
              <a:ext cx="247320" cy="808920"/>
              <a:chOff x="3285000" y="3575160"/>
              <a:chExt cx="247320" cy="808920"/>
            </a:xfrm>
          </p:grpSpPr>
          <p:sp>
            <p:nvSpPr>
              <p:cNvPr id="96" name=""/>
              <p:cNvSpPr/>
              <p:nvPr/>
            </p:nvSpPr>
            <p:spPr>
              <a:xfrm>
                <a:off x="3285000" y="3575160"/>
                <a:ext cx="247320" cy="80892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14880" y="3647160"/>
                <a:ext cx="252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76440" y="3712680"/>
                <a:ext cx="2880" cy="21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59240" y="3656520"/>
                <a:ext cx="1080" cy="21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314880" y="3949200"/>
                <a:ext cx="2520" cy="21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76440" y="4011840"/>
                <a:ext cx="288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59240" y="3956760"/>
                <a:ext cx="10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3333600" y="4242240"/>
                <a:ext cx="288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394080" y="4307040"/>
                <a:ext cx="2880" cy="5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3456000" y="4258800"/>
                <a:ext cx="288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273080" y="1066680"/>
              <a:ext cx="170316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Presa de j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25680" y="4812120"/>
              <a:ext cx="660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796600" y="4384800"/>
              <a:ext cx="432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16560" y="438480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240" y="47264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21720" y="47264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45440" y="4440600"/>
              <a:ext cx="260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1.5 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200" y="1707840"/>
              <a:ext cx="727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133880" y="1339200"/>
              <a:ext cx="0" cy="9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37160" y="1339560"/>
              <a:ext cx="45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59720" y="16160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0080" y="162108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34320" y="1621080"/>
              <a:ext cx="1000080" cy="596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2588040" y="1672920"/>
              <a:ext cx="64764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3812400" y="1662480"/>
              <a:ext cx="66852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1044000" y="1672200"/>
              <a:ext cx="64944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41200" y="1706760"/>
              <a:ext cx="0" cy="60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040" y="16160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562040" y="1716120"/>
              <a:ext cx="0" cy="60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87880" y="162540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732400" y="170136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57520" y="162540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51160" y="1335240"/>
              <a:ext cx="117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1.5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41720" y="1325880"/>
              <a:ext cx="117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3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28440" y="1335240"/>
              <a:ext cx="117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6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8560" y="4726440"/>
              <a:ext cx="1518840" cy="171360"/>
            </a:xfrm>
            <a:prstGeom prst="leftArrow">
              <a:avLst>
                <a:gd name="adj1" fmla="val 50000"/>
                <a:gd name="adj2" fmla="val 221586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560" y="4907160"/>
              <a:ext cx="260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Dirección del Flu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bterráne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7016760" y="1599840"/>
            <a:ext cx="0" cy="9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20200" y="3886200"/>
            <a:ext cx="342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0960" y="5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36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0960" y="506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00080" y="243000"/>
            <a:ext cx="4562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Figur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Monitoreo del agua subterrá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6:01:03Z</dcterms:created>
  <dc:creator>Pre-Installed User</dc:creator>
  <dc:description/>
  <dc:language>en-US</dc:language>
  <cp:lastModifiedBy>Monica Balsas</cp:lastModifiedBy>
  <cp:lastPrinted>2002-11-14T16:01:16Z</cp:lastPrinted>
  <dcterms:modified xsi:type="dcterms:W3CDTF">2003-04-24T18:00:09Z</dcterms:modified>
  <cp:revision>6</cp:revision>
  <dc:subject/>
  <dc:title>Presentación de PowerPoint</dc:title>
</cp:coreProperties>
</file>